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F219-E285-4579-A91A-BA09593E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F292-FE7E-4632-9DD7-D1F37D0D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BD3F-0D05-4F8C-B734-59021A4C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D281-D5AA-4F79-9876-C438C440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AF4C-A75D-4BAA-8CF0-E93FE2FA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C41D-D831-4B39-A0DF-6F943859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4984-2EA4-461F-86B4-8C3FB604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873C-73FB-42EF-A0F4-C7BF929C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ECBF-E93C-469D-B7C5-B8FE6740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62AE-BB80-4C99-99CC-15D87E8C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7181-6ADC-4759-AD80-95B2CD21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634-3039-463C-9CC9-FBBC3CF9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05AC-08C8-4981-9E00-9A46E6A2F5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стория вычислительной техн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Этапы развития вычислительной техн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коления ЭВ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Управляющая кнопка: далее 5">
            <a:hlinkClick r:id="rId1" action="ppaction://hlinksldjump"/>
          </p:cNvPr>
          <p:cNvSpPr/>
          <p:nvPr/>
        </p:nvSpPr>
        <p:spPr>
          <a:xfrm>
            <a:off x="8286840" y="3786120"/>
            <a:ext cx="714240" cy="71460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Управляющая кнопка: далее 6">
            <a:hlinkClick r:id="rId2" action="ppaction://hlinksldjump"/>
          </p:cNvPr>
          <p:cNvSpPr/>
          <p:nvPr/>
        </p:nvSpPr>
        <p:spPr>
          <a:xfrm>
            <a:off x="6429240" y="5000760"/>
            <a:ext cx="857520" cy="714240"/>
          </a:xfrm>
          <a:custGeom>
            <a:avLst/>
            <a:gdLst>
              <a:gd name="textAreaLeft" fmla="*/ 46080 w 857520"/>
              <a:gd name="textAreaRight" fmla="*/ 811440 w 85752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5931" h="21600">
                <a:moveTo>
                  <a:pt x="0" y="0"/>
                </a:moveTo>
                <a:lnTo>
                  <a:pt x="25931" y="0"/>
                </a:lnTo>
                <a:lnTo>
                  <a:pt x="25931" y="21600"/>
                </a:lnTo>
                <a:lnTo>
                  <a:pt x="0" y="21600"/>
                </a:lnTo>
                <a:close/>
              </a:path>
              <a:path fill="lightenLess" w="25931" h="21600">
                <a:moveTo>
                  <a:pt x="0" y="0"/>
                </a:moveTo>
                <a:lnTo>
                  <a:pt x="25931" y="0"/>
                </a:lnTo>
                <a:lnTo>
                  <a:pt x="24531" y="1400"/>
                </a:lnTo>
                <a:lnTo>
                  <a:pt x="1400" y="1400"/>
                </a:lnTo>
                <a:close/>
              </a:path>
              <a:path fill="darken" w="25931" h="21600">
                <a:moveTo>
                  <a:pt x="25931" y="0"/>
                </a:moveTo>
                <a:lnTo>
                  <a:pt x="25931" y="21600"/>
                </a:lnTo>
                <a:lnTo>
                  <a:pt x="24531" y="20200"/>
                </a:lnTo>
                <a:lnTo>
                  <a:pt x="24531" y="1400"/>
                </a:lnTo>
                <a:close/>
              </a:path>
              <a:path fill="darkenLess" w="25931" h="21600">
                <a:moveTo>
                  <a:pt x="25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1" y="20200"/>
                </a:lnTo>
                <a:close/>
              </a:path>
              <a:path fill="lighten" w="25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1" h="21600">
                <a:moveTo>
                  <a:pt x="5959" y="3794"/>
                </a:moveTo>
                <a:lnTo>
                  <a:pt x="19972" y="10800"/>
                </a:lnTo>
                <a:lnTo>
                  <a:pt x="5959" y="17806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5480" y="285480"/>
            <a:ext cx="84294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00040" y="357120"/>
          <a:ext cx="7772400" cy="9748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иод разви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механиче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90-х годов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X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80" name="Rectangle 3"/>
          <p:cNvSpPr/>
          <p:nvPr/>
        </p:nvSpPr>
        <p:spPr>
          <a:xfrm>
            <a:off x="214200" y="2083680"/>
            <a:ext cx="6643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программы для вычислительной машины Бэббиджа создавала Ада Лавлейс — дочь известного поэта Джорджа Байрона, в честь которой впоследствии был назван один из языков программирования.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а Лавлейс разработала основные принципы программиров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остаются актуальными до настоящего момента времени. Ряд терминов, введенных Адой Лавлейс, используются и сейчас, например, «цикл», «рабочие ячейки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801800" y="2143080"/>
            <a:ext cx="7342200" cy="221472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6"/>
          <p:cNvSpPr/>
          <p:nvPr/>
        </p:nvSpPr>
        <p:spPr>
          <a:xfrm>
            <a:off x="3571920" y="5000760"/>
            <a:ext cx="5572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Теоретические основы современных цифровых вычислительных машин заложил английский математик Джордж Буль (1815—1864). Он разработал алгебру логики, ввел в обиход логические операторы И, ИЛИ, Н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5" descr=""/>
          <p:cNvPicPr/>
          <p:nvPr/>
        </p:nvPicPr>
        <p:blipFill>
          <a:blip r:embed="rId2"/>
          <a:stretch/>
        </p:blipFill>
        <p:spPr>
          <a:xfrm>
            <a:off x="1571760" y="4549680"/>
            <a:ext cx="192852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50104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28760" y="285840"/>
          <a:ext cx="8072280" cy="1071360"/>
        </p:xfrm>
        <a:graphic>
          <a:graphicData uri="http://schemas.openxmlformats.org/drawingml/2006/table">
            <a:tbl>
              <a:tblPr/>
              <a:tblGrid>
                <a:gridCol w="4037040"/>
                <a:gridCol w="4035240"/>
              </a:tblGrid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иод разви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механиче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90-х годов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X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1"/>
          <p:cNvSpPr/>
          <p:nvPr/>
        </p:nvSpPr>
        <p:spPr>
          <a:xfrm>
            <a:off x="0" y="23540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4 г. (по другим источникам, в 1943 г.) в Англии было разработано полностью автоматическое вычислительное устройств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ssu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сновным его назначением была дешифровка перехваченных сообщений военного против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е одна полностью автоматическая вычислительная машина, изобретенная профессором Гарвардского университета Говардом Айкеном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0—1973), при участии группы инженеров фирм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ыла построена в 1944 г. Она была назва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ругое назва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) и была электромеханической (построена на реле), состоящей приблизительно из 750 тысяч компонентов. На умножение она тратила около 4 секунд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14240" y="357120"/>
          <a:ext cx="7772400" cy="9748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иод разви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н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40-х годов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89" name="Прямоугольник 4"/>
          <p:cNvSpPr/>
          <p:nvPr/>
        </p:nvSpPr>
        <p:spPr>
          <a:xfrm>
            <a:off x="928800" y="2428920"/>
            <a:ext cx="7286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1937 г. в США Дж. Атанасов начал работы по созданию электронной вычислительной машины. Им были созданы и запатентованы первые электронные схемы отдельных узлов ЭВМ. Совместно с К. Берри к 1942 г. была построена электронная маши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anasoff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rry Compute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71680" y="285840"/>
          <a:ext cx="8143560" cy="974520"/>
        </p:xfrm>
        <a:graphic>
          <a:graphicData uri="http://schemas.openxmlformats.org/drawingml/2006/table">
            <a:tbl>
              <a:tblPr/>
              <a:tblGrid>
                <a:gridCol w="4071600"/>
                <a:gridCol w="4071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иод разви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н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40-х годов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500280" y="1428840"/>
            <a:ext cx="5643720" cy="38113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"/>
          <p:cNvSpPr/>
          <p:nvPr/>
        </p:nvSpPr>
        <p:spPr>
          <a:xfrm>
            <a:off x="0" y="1375920"/>
            <a:ext cx="3714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онная вычислительная машина, разработанная Эккертом и Маучли в США в 1946 г., была названа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NIAC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здании этой машины Эккерт и Маучли заимствовали основные идеи у Дж. Атанасова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IA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примерно в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00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 быстрее че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на состояла из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8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сяч электронных ламп,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,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сячи реле, имела вес более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нн, потребляла мощность более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5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В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428760" y="5643720"/>
            <a:ext cx="8286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начальн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IA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граммировалась путем соединения проводами соответствующих гнезд на коммутационной панели, что делало составление программы очень медленным и утомительным занятие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581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14240" y="285840"/>
          <a:ext cx="7772400" cy="9745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иод разви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н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40-х годов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97" name="Rectangle 1"/>
          <p:cNvSpPr/>
          <p:nvPr/>
        </p:nvSpPr>
        <p:spPr>
          <a:xfrm>
            <a:off x="0" y="1339920"/>
            <a:ext cx="7072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мериканский математик и физик венгерского происхождения Джон фон Нейман (1903—1957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л хранить программу — последовательность команд управления ЭВМ— в памяти ЭВМ, что позволяло оперировать с программой так же, как с данным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778280" y="642960"/>
            <a:ext cx="4365720" cy="29448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6"/>
          <p:cNvSpPr/>
          <p:nvPr/>
        </p:nvSpPr>
        <p:spPr>
          <a:xfrm>
            <a:off x="0" y="34416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ующие ЭВМ строились с большим объемом памяти, с учетом того, что там будет храниться програм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кладе фон Неймана, посвященном описанию ЭВМ,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делено пять базовых элементов компьютера: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система вывода информации; арифметико-логическое устройство (АЛУ); устройство управления (УУ); запоминающее устройство (ЗУ); система ввода информ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писанную структуру ЭВМ принято называть архитектурой фон Нейма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723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1357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МЭСМ — малая электронная счетная машина - первая в СССР и в Европе электронная вычислительная машина. Создана в 1950 г. под руководством академика С. А. Лебеде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нее начался путь компьютеров в нашей стра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85880" y="0"/>
          <a:ext cx="7786800" cy="974880"/>
        </p:xfrm>
        <a:graphic>
          <a:graphicData uri="http://schemas.openxmlformats.org/drawingml/2006/table">
            <a:tbl>
              <a:tblPr/>
              <a:tblGrid>
                <a:gridCol w="3894120"/>
                <a:gridCol w="3892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иод разви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н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40-х годов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4143240" y="3071880"/>
            <a:ext cx="177433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Times New Roman"/>
              </a:rPr>
              <a:t>П</a:t>
            </a:r>
            <a:r>
              <a:rPr b="1" lang="ru-RU" sz="8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колени</a:t>
            </a:r>
            <a:r>
              <a:rPr b="1" lang="ru-RU" sz="8000" spc="-1" strike="noStrike">
                <a:solidFill>
                  <a:srgbClr val="3333cc"/>
                </a:solidFill>
                <a:latin typeface="Times New Roman"/>
              </a:rPr>
              <a:t>я</a:t>
            </a:r>
            <a:r>
              <a:rPr b="1" lang="ru-RU" sz="8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ЭВ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0" y="3047760"/>
            <a:ext cx="9144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1 покол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середина 40-х – середина 50-х г.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2 поколение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торая половина 5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3 покол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начало 6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х г.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4 покол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начало 70-х г.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5 поколе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 середины 80 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9144000" cy="64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 поко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1" lang="ru-RU" sz="4200" spc="-1" strike="noStrike">
                <a:solidFill>
                  <a:srgbClr val="0000ff"/>
                </a:solidFill>
                <a:latin typeface="Times New Roman"/>
              </a:rPr>
              <a:t>середина 40-х – середина 50-х г.г.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лементная база – электронные ламп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М отличались большими габаритам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льшим потреблением энерги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лым быстродействием низкой надежностью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граммированием в кодах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67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 поко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торая половина 50-х г.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лементная база - полупроводниковые элементы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ились по сравнению с ЭВМ предыдущего поколения все технические характеристики. Для программирования используются алгоритмические язык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0"/>
            <a:ext cx="9144000" cy="68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 поколение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начало 60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-х г.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лементная база – интегральные схемы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ногослойный печатный монтаж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ко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нижение габаритов ЭВМ, повышение их надежности, увеличение производительности. Доступ с удаленных терминал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тапы развития вычислительной техн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2214360"/>
            <a:ext cx="857232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285920" y="3000240"/>
          <a:ext cx="6881760" cy="2571840"/>
        </p:xfrm>
        <a:graphic>
          <a:graphicData uri="http://schemas.openxmlformats.org/drawingml/2006/table">
            <a:tbl>
              <a:tblPr/>
              <a:tblGrid>
                <a:gridCol w="3441600"/>
                <a:gridCol w="344016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иод разви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чн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установ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ханиче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середины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V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механиче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90-х годов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X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40-х годов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285920" y="3000240"/>
          <a:ext cx="6881760" cy="2571840"/>
        </p:xfrm>
        <a:graphic>
          <a:graphicData uri="http://schemas.openxmlformats.org/drawingml/2006/table">
            <a:tbl>
              <a:tblPr/>
              <a:tblGrid>
                <a:gridCol w="3441600"/>
                <a:gridCol w="344016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иод разви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чн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установ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ханиче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середины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V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механиче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90-х годов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X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40-х годов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-46080"/>
            <a:ext cx="9144000" cy="68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4 поко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начало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70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-х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г.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лементная база – микропроцессоры, больше интегральные схем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ились технические характеристики. Массовый выпуск персональных компью-теров. Направление развития: мощные многопроцессорные вычислительные системы с высокой производительностью создания дешевых микро – ЭВ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69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5 поко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с середины 80 г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чал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ь разработка интеллектуальных компьютеров,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 не увенчавшаяся успехо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недрение во все сферы компьютерных сетей и их объединение, использовани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е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распределенной обработки данных, повсеместное применение компьютерных информационных технологий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4582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-360" y="1980720"/>
            <a:ext cx="89298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Более трех тысяч лет назад в Средиземноморье было распространено простейшее приспособление для сче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доска, разделенная на полосы, где перемещались камешки или кости. Такая счетная дощечка называлась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ба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использовалась для ручного сче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28760" y="571680"/>
          <a:ext cx="8072280" cy="1036440"/>
        </p:xfrm>
        <a:graphic>
          <a:graphicData uri="http://schemas.openxmlformats.org/drawingml/2006/table">
            <a:tbl>
              <a:tblPr/>
              <a:tblGrid>
                <a:gridCol w="4037040"/>
                <a:gridCol w="4035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иод разви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чно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установле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214280" y="2786040"/>
            <a:ext cx="635184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14240" y="357120"/>
          <a:ext cx="7772400" cy="1036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иод разви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чно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установле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55" name="Прямоугольник 5"/>
          <p:cNvSpPr/>
          <p:nvPr/>
        </p:nvSpPr>
        <p:spPr>
          <a:xfrm>
            <a:off x="214200" y="1857240"/>
            <a:ext cx="8643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ревнем Риме абак называлс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i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aculi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изготавливался из бронзы, камня, слоновой кости и цветного стекла. Слов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u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значает «галька», «голыш». От этого слова произошло латинское слов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or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ычислять), а затем слово «калькуляция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Абак позволял лишь запоминать результат, а все арифметические действия должен был выполнять челов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360" y="2428920"/>
            <a:ext cx="56437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Первая механическая машина была построена немецким ученым Вильгельмом Шиккардом (предположительно в 1623 г.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шина была реализована в единственном экземпляре и предназначалась для выполнения арифметических операц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71680" y="714240"/>
          <a:ext cx="8143560" cy="974880"/>
        </p:xfrm>
        <a:graphic>
          <a:graphicData uri="http://schemas.openxmlformats.org/drawingml/2006/table">
            <a:tbl>
              <a:tblPr/>
              <a:tblGrid>
                <a:gridCol w="4071600"/>
                <a:gridCol w="4071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иод разви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ханиче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середины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VII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0" y="2786040"/>
            <a:ext cx="9193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802944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14240" y="857160"/>
          <a:ext cx="7772400" cy="9748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иод разви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ханиче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середины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VII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62" name="Прямоугольник 4"/>
          <p:cNvSpPr/>
          <p:nvPr/>
        </p:nvSpPr>
        <p:spPr>
          <a:xfrm>
            <a:off x="214200" y="3000240"/>
            <a:ext cx="478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Блез Паска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ранцузский математик, физик, религиозный философ и писатель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) в 1642 г. изобрел механическую счетную машину, выполнявшую слож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429160" y="2500200"/>
            <a:ext cx="342900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58760" y="2214720"/>
            <a:ext cx="8985240" cy="31273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42960" y="500040"/>
          <a:ext cx="7772400" cy="9748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иод разви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ханиче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середины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VII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67" name="Прямоугольник 4"/>
          <p:cNvSpPr/>
          <p:nvPr/>
        </p:nvSpPr>
        <p:spPr>
          <a:xfrm>
            <a:off x="285840" y="2000160"/>
            <a:ext cx="5786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Готфрид Лейбниц в 1674 г. расширил возможности машины Паскаля, добавив операции умножения, деления и извлечения квадратного корня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ально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для своей машины Лейбниц применил систему счисления, использующую вместо привычных для человека десяти цифр две: 1 и 0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оичная система счислений широко используется в современных ЭВ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571320"/>
            <a:ext cx="89298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85840" y="714240"/>
          <a:ext cx="8572320" cy="974880"/>
        </p:xfrm>
        <a:graphic>
          <a:graphicData uri="http://schemas.openxmlformats.org/drawingml/2006/table">
            <a:tbl>
              <a:tblPr/>
              <a:tblGrid>
                <a:gridCol w="4286160"/>
                <a:gridCol w="4286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иод разви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механиче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90-х годов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X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70" name="Rectangle 1"/>
          <p:cNvSpPr/>
          <p:nvPr/>
        </p:nvSpPr>
        <p:spPr>
          <a:xfrm>
            <a:off x="0" y="2590200"/>
            <a:ext cx="5929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1834 г. Чарльз Бэббидж первым разработал подробный проект автоматической вычислительной маши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так и не построил свою машину, так как в то время невозможно было достичь требуемой точности изготовления ее узлов. В качестве источника энергии для приведения в действие механизмов машины Ч. Бэббидж предполагал использовать паровой двигател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481640" y="-4125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481640" y="-4125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4481640" y="-4125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1"/>
          <a:stretch/>
        </p:blipFill>
        <p:spPr>
          <a:xfrm>
            <a:off x="6075360" y="2357280"/>
            <a:ext cx="30686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15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85880" y="0"/>
          <a:ext cx="7772400" cy="9748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иод разви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механиче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90-х годов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X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77" name="Rectangle 1"/>
          <p:cNvSpPr/>
          <p:nvPr/>
        </p:nvSpPr>
        <p:spPr>
          <a:xfrm>
            <a:off x="0" y="1248840"/>
            <a:ext cx="914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. Бэббидж выделял в своей машине следующие составные част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c00000"/>
              </a:buClr>
              <a:buFont typeface="Times New Roman"/>
              <a:buChar char="•"/>
              <a:tabLst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склад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хранения чисел (по современной терминологии — память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c00000"/>
              </a:buClr>
              <a:buFont typeface="Times New Roman"/>
              <a:buChar char="•"/>
              <a:tabLst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мельницу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изводства арифметических действий (арифметическое устройство, процессор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, управляющее последовательностью выполнения операций (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ройство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c00000"/>
              </a:buClr>
              <a:buFont typeface="Times New Roman"/>
              <a:buChar char="•"/>
              <a:tabLst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ройства ввода и вывода дан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эббидж предложил управлять своей машиной с помощью перфорированных карт, содержащих коды команд, подобно тому как использовались перфокарты в ткацких станках Жаккара. На этих картах было представлено то, что сегодня мы назвали бы программ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. Бэббидж подробно рассматривал вопросы, связанные, с программированием. Им была разработана весьма важная для программирования идея «условной передачи управления». Идеи Бэббиджа заложили фундамент, на котором со временем были построены ЭВ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05:43:21Z</dcterms:created>
  <dc:creator>Осиковский В.В.</dc:creator>
  <dc:description/>
  <dc:language>en-US</dc:language>
  <cp:lastModifiedBy>Admin</cp:lastModifiedBy>
  <dcterms:modified xsi:type="dcterms:W3CDTF">2009-09-09T10:41:00Z</dcterms:modified>
  <cp:revision>97</cp:revision>
  <dc:subject/>
  <dc:title>Поколения ЭВМ</dc:title>
</cp:coreProperties>
</file>